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6D92-42B8-4102-910F-3DE36FD34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8964-E837-429C-A8C4-E4860095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334F-A76E-4840-973B-FA25E0030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D805-7251-43B8-9565-4E8391F70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A481-C364-4FF3-A606-13EF54CE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0670-B227-4DDF-BC84-1D30767C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BFEA-F601-48F2-8860-BE5E64DC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4EBB-0E3C-43B4-9170-B7C7B9B3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B5E5-8FB9-445D-8FF3-E5501A33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8BE0-266F-4503-A7A2-C5BF3C61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CB7C-3CFA-4304-B8A1-6D096D20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4A55-694D-4BFD-8C8F-45AD28EE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CD2A-A219-466F-A5B6-7D434E402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The order of the planet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58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Andrew 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nr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1547640" cy="1814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1513080" cy="1811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059280" y="2276640"/>
            <a:ext cx="1512720" cy="1804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572000" y="2276640"/>
            <a:ext cx="1512720" cy="1801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084720" y="2276640"/>
            <a:ext cx="1513080" cy="1806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7589880" y="2276640"/>
            <a:ext cx="1554120" cy="1795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0" y="5056200"/>
            <a:ext cx="1558800" cy="1801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7589880" y="5054760"/>
            <a:ext cx="1554120" cy="1803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3780000" y="4076640"/>
            <a:ext cx="16412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724360" y="2349360"/>
            <a:ext cx="2808360" cy="2837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-198108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6600"/>
                </a:solidFill>
                <a:latin typeface="Arial"/>
              </a:rPr>
              <a:t>Plut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56000" y="8096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99"/>
                </a:solidFill>
                <a:latin typeface="Arial"/>
              </a:rPr>
              <a:t>=p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2840" y="4194000"/>
            <a:ext cx="4402080" cy="226548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18367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be0e3"/>
                </a:solidFill>
                <a:latin typeface="Arial"/>
              </a:rPr>
              <a:t>Mercur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860280"/>
            <a:ext cx="4402080" cy="226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ercury is the innermost and smallest planet in the Solar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00720" y="476280"/>
            <a:ext cx="1942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=m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724360" y="2349360"/>
            <a:ext cx="28083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724360" y="2349360"/>
            <a:ext cx="2808360" cy="2714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-18367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ff"/>
                </a:solidFill>
                <a:latin typeface="Arial"/>
              </a:rPr>
              <a:t>Venu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47628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=Ve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3860280"/>
            <a:ext cx="4402080" cy="2265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t is sometimes called Earth's "sister planet“ because they are simular in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724360" y="2349360"/>
            <a:ext cx="2808360" cy="2503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969920" y="360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ff"/>
                </a:solidFill>
                <a:latin typeface="Arial"/>
              </a:rPr>
              <a:t>Earth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67160" y="836640"/>
            <a:ext cx="23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=entert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4221000"/>
            <a:ext cx="4402080" cy="2265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Earth is only known planet to have an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227640" y="4437000"/>
            <a:ext cx="1944720" cy="503280"/>
          </a:xfrm>
          <a:prstGeom prst="flowChartTerminator">
            <a:avLst/>
          </a:prstGeom>
          <a:solidFill>
            <a:srgbClr val="ff9900"/>
          </a:solidFill>
          <a:ln w="604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ahootz LostCity"/>
              </a:rPr>
              <a:t>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724360" y="2357280"/>
            <a:ext cx="2808360" cy="2694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-190800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3300"/>
                </a:solidFill>
                <a:latin typeface="Arial"/>
              </a:rPr>
              <a:t>Mar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29080" y="73656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=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5920" y="4121280"/>
            <a:ext cx="4402080" cy="22651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724360" y="2349360"/>
            <a:ext cx="2808360" cy="2714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-198108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9900"/>
                </a:solidFill>
                <a:latin typeface="Arial"/>
              </a:rPr>
              <a:t>Jupite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56000" y="8096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Arial"/>
              </a:rPr>
              <a:t>=je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840" y="4194000"/>
            <a:ext cx="4402080" cy="22654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724360" y="2349360"/>
            <a:ext cx="2808360" cy="2778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-198108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9900"/>
                </a:solidFill>
                <a:latin typeface="Arial"/>
              </a:rPr>
              <a:t>Satur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56000" y="8096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00"/>
                </a:solidFill>
                <a:latin typeface="Arial"/>
              </a:rPr>
              <a:t>=sit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2840" y="4194000"/>
            <a:ext cx="4402080" cy="2265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724360" y="2349360"/>
            <a:ext cx="2808360" cy="2786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-198108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Uranu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56000" y="8096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=up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2840" y="4194000"/>
            <a:ext cx="4402080" cy="22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724360" y="2349360"/>
            <a:ext cx="2808360" cy="2827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-198108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ccff"/>
                </a:solidFill>
                <a:latin typeface="Arial"/>
              </a:rPr>
              <a:t>Neptu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56000" y="8096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=noi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840" y="4194000"/>
            <a:ext cx="4402080" cy="2265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04:23:38Z</dcterms:created>
  <dc:creator>Admin</dc:creator>
  <dc:description/>
  <dc:language>en-US</dc:language>
  <cp:lastModifiedBy>Admin</cp:lastModifiedBy>
  <dcterms:modified xsi:type="dcterms:W3CDTF">2009-08-04T04:56:11Z</dcterms:modified>
  <cp:revision>7</cp:revision>
  <dc:subject/>
  <dc:title>The order of the planets</dc:title>
</cp:coreProperties>
</file>